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28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19.png" ContentType="image/png"/>
  <Override PartName="/ppt/media/image1.png" ContentType="image/png"/>
  <Override PartName="/ppt/media/image23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CA43-09BD-4459-A61E-1CA1B8F954A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1ECB8-C939-4C58-8792-C4B0CBAB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11963-65AE-429F-8DCC-F8D2B32C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3256-1E36-42CD-BD7B-F213D90169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A01D4-3EAA-4121-B948-73FA91D8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B0854-F990-4BC8-BFA2-F15C5411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F81DF-2C50-403E-8B27-99FDFDAE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DD63-DD53-47F5-A096-BF3F60BD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E0B78-8EA2-4955-8539-78791855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BD499-3A5C-461E-9B0A-B7623C9A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206F-3C32-4B9A-8377-2FB16B1A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73108-B3DD-4194-AD09-630674ACC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DA27-D028-44A5-BCA9-CF9513A37E0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1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204640"/>
            <a:ext cx="813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章 泌尿系统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首都医科大学燕京医学院     毕桂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6994440" y="4951440"/>
            <a:ext cx="1517760" cy="1219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 急性肾小球肾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63280" y="1557360"/>
            <a:ext cx="5040360" cy="43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因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病理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 spd="med" advTm="4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6520" y="333360"/>
            <a:ext cx="8386560" cy="6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概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14716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义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指急性起病，表现为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水肿、血尿、蛋白尿、高血压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的肾小球疾患。小儿期多为急性链球菌感染后肾小球肾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季节：四季散发，冬春季多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发病年龄：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5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～</a:t>
            </a:r>
            <a:r>
              <a:rPr b="1" lang="en-US" sz="3100" spc="-1" strike="noStrike">
                <a:solidFill>
                  <a:srgbClr val="ff66ff"/>
                </a:solidFill>
                <a:latin typeface="宋体"/>
                <a:ea typeface="宋体"/>
              </a:rPr>
              <a:t>14</a:t>
            </a: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岁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多见，＜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岁罕见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性别：    男∶女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=2</a:t>
            </a:r>
            <a:r>
              <a:rPr b="1" lang="zh-CN" sz="3100" spc="-1" strike="noStrike">
                <a:solidFill>
                  <a:srgbClr val="046ca6"/>
                </a:solidFill>
                <a:latin typeface="宋体"/>
                <a:ea typeface="宋体"/>
              </a:rPr>
              <a:t>∶</a:t>
            </a:r>
            <a:r>
              <a:rPr b="1" lang="en-US" sz="31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42920" y="1412640"/>
            <a:ext cx="7561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因：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A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组</a:t>
            </a:r>
            <a:r>
              <a:rPr b="1" lang="en-US" sz="2800" spc="-1" strike="noStrike">
                <a:solidFill>
                  <a:srgbClr val="ff66ff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ff66ff"/>
                </a:solidFill>
                <a:latin typeface="宋体"/>
                <a:ea typeface="宋体"/>
              </a:rPr>
              <a:t>溶血性链球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感染途径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上呼吸道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-380880" algn="just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皮肤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3" marL="17524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2" name="Picture 4" descr="1-1"/>
          <p:cNvPicPr/>
          <p:nvPr/>
        </p:nvPicPr>
        <p:blipFill>
          <a:blip r:embed="rId1"/>
          <a:stretch/>
        </p:blipFill>
        <p:spPr>
          <a:xfrm>
            <a:off x="6095880" y="2590920"/>
            <a:ext cx="2657520" cy="40384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5A08-E0F7-41DE-A921-D019EB5F5D0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1676520" y="1447920"/>
            <a:ext cx="7467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不同感染途径所致</a:t>
            </a: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肾炎的</a:t>
            </a:r>
            <a:r>
              <a:rPr b="1" lang="zh-CN" sz="3200" spc="-1" strike="noStrike">
                <a:solidFill>
                  <a:srgbClr val="ff66ff"/>
                </a:solidFill>
                <a:latin typeface="Times New Roman"/>
                <a:ea typeface="楷体_GB2312"/>
              </a:rPr>
              <a:t>差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db523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3276720" y="2743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呼吸道感染</a:t>
            </a:r>
            <a:r>
              <a:rPr b="0" lang="zh-CN" sz="1100" spc="-1" strike="noStrike">
                <a:solidFill>
                  <a:srgbClr val="6666ff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5943600" y="2743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皮肤感染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685800" y="3276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12952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地区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1295280" y="41911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季节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1219320" y="4648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年龄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1219320" y="5105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前驱期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0" y="57150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机体免疫反应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1"/>
          <p:cNvSpPr/>
          <p:nvPr/>
        </p:nvSpPr>
        <p:spPr>
          <a:xfrm>
            <a:off x="2971800" y="3200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2"/>
          <p:cNvSpPr/>
          <p:nvPr/>
        </p:nvSpPr>
        <p:spPr>
          <a:xfrm>
            <a:off x="5791320" y="31240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3"/>
          <p:cNvSpPr/>
          <p:nvPr/>
        </p:nvSpPr>
        <p:spPr>
          <a:xfrm>
            <a:off x="3276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温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4"/>
          <p:cNvSpPr/>
          <p:nvPr/>
        </p:nvSpPr>
        <p:spPr>
          <a:xfrm>
            <a:off x="5638680" y="37339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亚热带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20040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冬季多见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638680" y="41911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夏秋季多见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Rectangle 17"/>
          <p:cNvSpPr/>
          <p:nvPr/>
        </p:nvSpPr>
        <p:spPr>
          <a:xfrm>
            <a:off x="19810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11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8"/>
          <p:cNvSpPr/>
          <p:nvPr/>
        </p:nvSpPr>
        <p:spPr>
          <a:xfrm>
            <a:off x="5638680" y="4724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常见于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龄前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儿童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9"/>
          <p:cNvSpPr/>
          <p:nvPr/>
        </p:nvSpPr>
        <p:spPr>
          <a:xfrm>
            <a:off x="1981080" y="51814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左右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5638680" y="5257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       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一般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～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周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,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平均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20</a:t>
            </a:r>
            <a:r>
              <a:rPr b="1" lang="zh-CN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天</a:t>
            </a: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1979640" y="5734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          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SO↑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&gt;80%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        ASO↑</a:t>
            </a:r>
            <a:r>
              <a:rPr b="1" lang="zh-CN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仅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71500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1696680" y="2743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感染途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129528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目前尚不清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免疫介导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病因及发病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3751560" y="348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链球菌致肾炎菌株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736920" y="399240"/>
            <a:ext cx="1826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形成循环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3564000" y="83268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原位免疫复合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6516720" y="327960"/>
            <a:ext cx="202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诱发自身免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3803760" y="1796400"/>
            <a:ext cx="140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激活补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3564000" y="2559960"/>
            <a:ext cx="2328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炎症病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876960" y="2803320"/>
            <a:ext cx="2271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内皮细胞增生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肿胀，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毛细血管管腔狭窄</a:t>
            </a:r>
            <a:r>
              <a:rPr b="0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179280" y="4182480"/>
            <a:ext cx="252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ˎ̥"/>
              </a:rPr>
              <a:t>肾小球滤过率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684360" y="4863600"/>
            <a:ext cx="140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球管失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11"/>
          <p:cNvSpPr/>
          <p:nvPr/>
        </p:nvSpPr>
        <p:spPr>
          <a:xfrm>
            <a:off x="395280" y="5847840"/>
            <a:ext cx="294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血容量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4213440" y="4791240"/>
            <a:ext cx="18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3"/>
          <p:cNvSpPr/>
          <p:nvPr/>
        </p:nvSpPr>
        <p:spPr>
          <a:xfrm>
            <a:off x="7045920" y="3258360"/>
            <a:ext cx="1460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破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14"/>
          <p:cNvSpPr/>
          <p:nvPr/>
        </p:nvSpPr>
        <p:spPr>
          <a:xfrm flipH="1">
            <a:off x="2627280" y="620640"/>
            <a:ext cx="649440" cy="360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Line 15"/>
          <p:cNvSpPr/>
          <p:nvPr/>
        </p:nvSpPr>
        <p:spPr>
          <a:xfrm>
            <a:off x="4427640" y="765000"/>
            <a:ext cx="0" cy="6480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5940360" y="620640"/>
            <a:ext cx="79236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2268360" y="1484280"/>
            <a:ext cx="1366920" cy="1152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8"/>
          <p:cNvSpPr/>
          <p:nvPr/>
        </p:nvSpPr>
        <p:spPr>
          <a:xfrm>
            <a:off x="4427640" y="184464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Line 19"/>
          <p:cNvSpPr/>
          <p:nvPr/>
        </p:nvSpPr>
        <p:spPr>
          <a:xfrm flipH="1">
            <a:off x="5292360" y="1341360"/>
            <a:ext cx="1871640" cy="13669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Line 20"/>
          <p:cNvSpPr/>
          <p:nvPr/>
        </p:nvSpPr>
        <p:spPr>
          <a:xfrm flipH="1">
            <a:off x="3132000" y="3357720"/>
            <a:ext cx="503280" cy="1425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Line 21"/>
          <p:cNvSpPr/>
          <p:nvPr/>
        </p:nvSpPr>
        <p:spPr>
          <a:xfrm>
            <a:off x="4427640" y="2852640"/>
            <a:ext cx="0" cy="2890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Line 22"/>
          <p:cNvSpPr/>
          <p:nvPr/>
        </p:nvSpPr>
        <p:spPr>
          <a:xfrm>
            <a:off x="5867280" y="3429000"/>
            <a:ext cx="86544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23"/>
          <p:cNvSpPr/>
          <p:nvPr/>
        </p:nvSpPr>
        <p:spPr>
          <a:xfrm>
            <a:off x="7885080" y="4221000"/>
            <a:ext cx="0" cy="287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Line 24"/>
          <p:cNvSpPr/>
          <p:nvPr/>
        </p:nvSpPr>
        <p:spPr>
          <a:xfrm>
            <a:off x="1258920" y="4365720"/>
            <a:ext cx="0" cy="4316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1258920" y="5157720"/>
            <a:ext cx="0" cy="2872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Line 26"/>
          <p:cNvSpPr/>
          <p:nvPr/>
        </p:nvSpPr>
        <p:spPr>
          <a:xfrm>
            <a:off x="1258920" y="5877000"/>
            <a:ext cx="0" cy="5047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Line 27"/>
          <p:cNvSpPr/>
          <p:nvPr/>
        </p:nvSpPr>
        <p:spPr>
          <a:xfrm>
            <a:off x="2771640" y="5661000"/>
            <a:ext cx="1152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28"/>
          <p:cNvSpPr/>
          <p:nvPr/>
        </p:nvSpPr>
        <p:spPr>
          <a:xfrm>
            <a:off x="3419640" y="666900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29"/>
          <p:cNvSpPr/>
          <p:nvPr/>
        </p:nvSpPr>
        <p:spPr>
          <a:xfrm>
            <a:off x="4067280" y="6093000"/>
            <a:ext cx="2233440" cy="765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水肿、高血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Rectangle 30"/>
          <p:cNvSpPr/>
          <p:nvPr/>
        </p:nvSpPr>
        <p:spPr>
          <a:xfrm>
            <a:off x="3995640" y="5013360"/>
            <a:ext cx="2376720" cy="836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少尿、无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Rectangle 31"/>
          <p:cNvSpPr/>
          <p:nvPr/>
        </p:nvSpPr>
        <p:spPr>
          <a:xfrm>
            <a:off x="6804000" y="4581360"/>
            <a:ext cx="2089080" cy="1079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蛋白尿、血尿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管型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Rectangle 32"/>
          <p:cNvSpPr/>
          <p:nvPr/>
        </p:nvSpPr>
        <p:spPr>
          <a:xfrm>
            <a:off x="1066680" y="189000"/>
            <a:ext cx="8077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三、病理生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08000" y="1700280"/>
            <a:ext cx="8894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驱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病例（典型病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ff"/>
                </a:solidFill>
                <a:latin typeface="Arial"/>
                <a:ea typeface="楷体_GB2312"/>
              </a:rPr>
              <a:t>水肿：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部位、性质、程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      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患儿出现初期为眼睑及颜面部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               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渐及躯干、四肢，甚至全身。呈非凹陷性，     多为轻中度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06632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971640" y="112536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184720" cy="3673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42920" y="105264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水 肿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(Edema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9" name="Picture 3" descr=""/>
          <p:cNvPicPr/>
          <p:nvPr/>
        </p:nvPicPr>
        <p:blipFill>
          <a:blip r:embed="rId1"/>
          <a:stretch/>
        </p:blipFill>
        <p:spPr>
          <a:xfrm>
            <a:off x="1116000" y="1916280"/>
            <a:ext cx="6335640" cy="385740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066680" y="260280"/>
            <a:ext cx="7969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752040" y="1768320"/>
            <a:ext cx="6908760" cy="38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血尿、蛋白尿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, Proteinuria 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轻者仅有镜下血尿，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70%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肉眼血尿。肉眼血尿多在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消失，转为镜下血尿。镜下血尿一般持续数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蛋白尿程度不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1840" y="2165400"/>
            <a:ext cx="4537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泌尿系统解剖生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小球肾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3419640" y="1916280"/>
            <a:ext cx="496872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肾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肾病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泌尿道感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-828720" y="1125360"/>
            <a:ext cx="5616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血  尿</a:t>
            </a:r>
            <a:r>
              <a:rPr b="0" lang="zh-CN" sz="3200" spc="-1" strike="noStrike">
                <a:solidFill>
                  <a:srgbClr val="ffff66"/>
                </a:solidFill>
                <a:latin typeface="Verdana"/>
                <a:ea typeface="楷体_GB2312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ematuria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5638680" y="-60948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5" name="Picture 5" descr="x0"/>
          <p:cNvPicPr/>
          <p:nvPr/>
        </p:nvPicPr>
        <p:blipFill>
          <a:blip r:embed="rId1"/>
          <a:stretch/>
        </p:blipFill>
        <p:spPr>
          <a:xfrm>
            <a:off x="1371600" y="2438280"/>
            <a:ext cx="83808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x3"/>
          <p:cNvPicPr/>
          <p:nvPr/>
        </p:nvPicPr>
        <p:blipFill>
          <a:blip r:embed="rId2"/>
          <a:stretch/>
        </p:blipFill>
        <p:spPr>
          <a:xfrm>
            <a:off x="4140360" y="2349360"/>
            <a:ext cx="771480" cy="255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7" descr="x4"/>
          <p:cNvPicPr/>
          <p:nvPr/>
        </p:nvPicPr>
        <p:blipFill>
          <a:blip r:embed="rId3"/>
          <a:stretch/>
        </p:blipFill>
        <p:spPr>
          <a:xfrm>
            <a:off x="5292720" y="2421000"/>
            <a:ext cx="762120" cy="2506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8" descr="x5"/>
          <p:cNvPicPr/>
          <p:nvPr/>
        </p:nvPicPr>
        <p:blipFill>
          <a:blip r:embed="rId4"/>
          <a:stretch/>
        </p:blipFill>
        <p:spPr>
          <a:xfrm>
            <a:off x="6443640" y="2421000"/>
            <a:ext cx="762120" cy="24843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5"/>
          <a:stretch/>
        </p:blipFill>
        <p:spPr>
          <a:xfrm>
            <a:off x="2843280" y="2349360"/>
            <a:ext cx="792000" cy="259236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106632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752400" y="1855800"/>
            <a:ext cx="7780320" cy="37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ff"/>
                </a:solidFill>
                <a:latin typeface="Comic Sans MS"/>
                <a:ea typeface="楷体_GB2312"/>
              </a:rPr>
              <a:t>高血压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(Hypertension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30%~80%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有高血压，多为轻度或中度增高。一般在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~2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周内随尿量增加而恢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6160" y="836280"/>
            <a:ext cx="863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 临床表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38560" y="1366200"/>
            <a:ext cx="7197120" cy="42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病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循环充血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高血压脑病：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 algn="just">
              <a:lnSpc>
                <a:spcPct val="25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ff"/>
                </a:solidFill>
                <a:latin typeface="Arial"/>
                <a:ea typeface="楷体_GB2312"/>
              </a:rPr>
              <a:t>急性肾功能衰竭：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楷体_GB2312"/>
              </a:rPr>
              <a:t>(</a:t>
            </a:r>
            <a:r>
              <a:rPr b="1" lang="en-US" sz="20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ARF)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AutoShape 4"/>
          <p:cNvSpPr/>
          <p:nvPr/>
        </p:nvSpPr>
        <p:spPr>
          <a:xfrm>
            <a:off x="3276720" y="0"/>
            <a:ext cx="5616360" cy="4105440"/>
          </a:xfrm>
          <a:prstGeom prst="wedgeRoundRectCallout">
            <a:avLst>
              <a:gd name="adj1" fmla="val -50254"/>
              <a:gd name="adj2" fmla="val 25754"/>
              <a:gd name="adj3" fmla="val 16667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水钠潴留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血容量增加 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循环负荷过重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：轻者 ：为气急、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HR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增快、肺部少量湿罗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重者 ：出现呼吸困难、端坐呼吸、颈</a:t>
            </a:r>
            <a:r>
              <a:rPr b="1" lang="en-US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V</a:t>
            </a: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怒张、咳粉红色泡沫痰、两肺满布湿罗音、 心大等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。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5"/>
          <p:cNvSpPr/>
          <p:nvPr/>
        </p:nvSpPr>
        <p:spPr>
          <a:xfrm>
            <a:off x="3419640" y="1844640"/>
            <a:ext cx="5724360" cy="3240000"/>
          </a:xfrm>
          <a:prstGeom prst="wedgeRectCallout">
            <a:avLst>
              <a:gd name="adj1" fmla="val -51083"/>
              <a:gd name="adj2" fmla="val 43583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血容量增加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血管痉挛脑组织缺血、缺氧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血管渗透性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    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脑水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BP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急剧升高＞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140/90mmHg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，伴头痛，呕吐，复视或一过性失明，重者可出现惊厥、昏迷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Line 6"/>
          <p:cNvSpPr/>
          <p:nvPr/>
        </p:nvSpPr>
        <p:spPr>
          <a:xfrm>
            <a:off x="7451640" y="4149720"/>
            <a:ext cx="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3564000" y="3933720"/>
            <a:ext cx="5040360" cy="2592360"/>
          </a:xfrm>
          <a:prstGeom prst="wedgeEllipseCallout">
            <a:avLst>
              <a:gd name="adj1" fmla="val -52393"/>
              <a:gd name="adj2" fmla="val 38916"/>
            </a:avLst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原因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 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GFR↓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Comic Sans MS"/>
                <a:ea typeface="宋体"/>
              </a:rPr>
              <a:t>表现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：少尿、无尿，致暂时性氮质血症、电解质紊乱和代酸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             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9" dur="1" fill="hold"/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9000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尿常规：尿蛋白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+++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镜下大量红细胞，透明颗粒或红细胞管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0" name="Picture 4" descr="203000~1"/>
          <p:cNvPicPr/>
          <p:nvPr/>
        </p:nvPicPr>
        <p:blipFill>
          <a:blip r:embed="rId1"/>
          <a:stretch/>
        </p:blipFill>
        <p:spPr>
          <a:xfrm>
            <a:off x="2916360" y="3213000"/>
            <a:ext cx="3724200" cy="28116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 spd="med" advTm="4000"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液检查：稀释性贫血，血沉增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肾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链球菌感染证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ASO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血清补体测定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ff0066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Comic Sans MS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C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Comic Sans MS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下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10920" y="1341000"/>
            <a:ext cx="7848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目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ff66ff"/>
                </a:solidFill>
                <a:latin typeface="宋体"/>
                <a:ea typeface="宋体"/>
              </a:rPr>
              <a:t>对症治疗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及重症处理、防治并发症、保护肾功能、促进自然恢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 advTm="4000">
    <p:random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（一）一般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休息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急性期卧床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,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至水肿消失，血压降至正常，肉眼血尿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正常可上学，避免体育课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饮食 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限盐（水肿，高血压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，限水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(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尿少、循环充血者），限蛋白（氮质血症者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        </a:t>
            </a:r>
            <a:r>
              <a:rPr b="0" lang="zh-CN" sz="2400" spc="-1" strike="noStrike">
                <a:solidFill>
                  <a:srgbClr val="ff66ff"/>
                </a:solidFill>
                <a:latin typeface="Verdana"/>
                <a:ea typeface="楷体_GB2312"/>
              </a:rPr>
              <a:t>抗生素的使用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青霉素、头孢类抗生素 </a:t>
            </a:r>
            <a:r>
              <a:rPr b="0" lang="en-US" sz="24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10~14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天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68360" y="1413000"/>
            <a:ext cx="719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Times New Roman"/>
                <a:ea typeface="华文行楷"/>
              </a:rPr>
              <a:t>（二）对症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.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利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适应证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明显水肿、少尿、高血压、高血压脑病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循环充血、肺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选择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禁用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保钾利尿剂、渗透性利尿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常用：速尿、氢氯噻嗪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899640" y="1773000"/>
            <a:ext cx="76899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 硝苯地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卡托普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p:transition spd="med" advTm="4000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型病例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3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宋体"/>
                <a:ea typeface="宋体"/>
              </a:rPr>
              <a:t>高血压及高血压脑病的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轻者利尿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降压剂：首选硝普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止惊：地西泮静脉推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85672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复述小儿泌尿系统解剖生理特点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泌尿道感染的病原体、急性肾衰竭的原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出急性肾小球肾炎、肾病综合征的定义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说明肾小球肾炎的病因和发病机制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小球肾炎和肾病综合征临床异同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比较肾炎性肾病与单纯性肾病的临床特点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小球肾炎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评估肾病综合征患儿并为其制订护理计划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能对急性肾衰竭患儿进行正确护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D92B-5AAF-4855-8D3F-C7597572D8E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75564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严重循环充血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格限制水钠入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利尿剂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减轻心脏负荷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透析治疗</a:t>
            </a:r>
            <a:r>
              <a:rPr b="1" lang="en-US" sz="31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(Hemodialysis)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 algn="just">
              <a:lnSpc>
                <a:spcPct val="120000"/>
              </a:lnSpc>
              <a:spcBef>
                <a:spcPts val="7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ff66ff"/>
                </a:solidFill>
                <a:latin typeface="Arial"/>
                <a:ea typeface="楷体_GB2312"/>
              </a:rPr>
              <a:t>肾功能不全的处理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限制入液量    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 algn="just">
              <a:lnSpc>
                <a:spcPct val="12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        </a:t>
            </a:r>
            <a:r>
              <a:rPr b="1" lang="zh-CN" sz="3100" spc="-1" strike="noStrike">
                <a:solidFill>
                  <a:srgbClr val="046ca6"/>
                </a:solidFill>
                <a:latin typeface="Arial"/>
                <a:ea typeface="楷体_GB2312"/>
              </a:rPr>
              <a:t>严重病例行透析治疗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1619280" y="1341000"/>
            <a:ext cx="70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心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06668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治疗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-108000" y="17733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液过多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肾小球滤过率下降、水钠潴留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无耐力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与水钠潴留、血压升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高血压脑病、严重循环充血、急性肾衰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儿和家长缺乏本病护理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八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1763280" y="1699920"/>
            <a:ext cx="554508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饮食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用药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900000" y="1268280"/>
            <a:ext cx="701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46ca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1)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卧床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：待水肿消失，血压降至正常、肉眼血尿消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2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下床轻微活动：血压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消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肉眼血尿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上学（免体育课）：血沉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(4)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生活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Addis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计数正常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395280" y="1484280"/>
            <a:ext cx="8136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性期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~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内限制水钠盐的入量，予高糖、维生素、适量蛋白和脂肪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钠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60~120mg/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氮质血症：限制水和蛋白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0.5k/k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尿量、血压正常，水肿消退渐过渡到普通饮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84360" y="1341360"/>
            <a:ext cx="7924680" cy="41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病情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测体重：每日或隔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留尿检查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周，记出入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水肿明显使用利尿剂测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血压明显增高应用降压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观察病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3)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予半卧位、吸氧、速尿、  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684360" y="1773360"/>
            <a:ext cx="79246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严重循环充血和心衰的处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观察病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予半卧位、吸氧、速尿、酚妥拉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2"/>
          <p:cNvSpPr/>
          <p:nvPr/>
        </p:nvSpPr>
        <p:spPr>
          <a:xfrm>
            <a:off x="755640" y="1628640"/>
            <a:ext cx="81532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概念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：以肾小球基膜通透性增高为主的一组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征，临床特点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明显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分：单纯性、肾炎性、先天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肾病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4724280"/>
            <a:ext cx="3960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二）输尿管  宽、弯曲，易发生尿潴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4" descr="59540e722dbcab73"/>
          <p:cNvPicPr/>
          <p:nvPr/>
        </p:nvPicPr>
        <p:blipFill>
          <a:blip r:embed="rId1"/>
          <a:stretch/>
        </p:blipFill>
        <p:spPr>
          <a:xfrm>
            <a:off x="4788000" y="1557360"/>
            <a:ext cx="4138560" cy="453564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-1116000" y="20606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468360" y="2781360"/>
            <a:ext cx="3527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肾  相对较大、位置较低、分叶状 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2~4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岁，分叶消失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Line 7"/>
          <p:cNvSpPr/>
          <p:nvPr/>
        </p:nvSpPr>
        <p:spPr>
          <a:xfrm flipH="1">
            <a:off x="4859280" y="2205000"/>
            <a:ext cx="11527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4858920" y="3716280"/>
            <a:ext cx="13683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3564000" y="1844640"/>
            <a:ext cx="1295280" cy="5763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十二胸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4140360" y="2708280"/>
            <a:ext cx="647640" cy="14414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第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Comic Sans MS"/>
                <a:ea typeface="宋体"/>
              </a:rPr>
              <a:t>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755640" y="907920"/>
            <a:ext cx="558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单纯性肾病（微小病变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细胞免疫功能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AutoShape 3"/>
          <p:cNvSpPr/>
          <p:nvPr/>
        </p:nvSpPr>
        <p:spPr>
          <a:xfrm>
            <a:off x="4356000" y="206064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4932360" y="1844640"/>
            <a:ext cx="387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静电屏障作用受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>
            <a:off x="6156360" y="314172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704560" y="3716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白蛋白漏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6156360" y="450864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5858280" y="51577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Rectangle 9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2298240" y="552600"/>
            <a:ext cx="39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炎性肾病（非微小病变性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免疫复合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3733920" y="2133720"/>
            <a:ext cx="6094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2780280" y="2708280"/>
            <a:ext cx="383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基膜激活补体，凝血机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损坏基底膜分子屏障作用（断裂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3780000" y="407664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3548160" y="4724280"/>
            <a:ext cx="188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非选择性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血尿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0" y="333360"/>
            <a:ext cx="19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致病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AutoShape 3"/>
          <p:cNvSpPr/>
          <p:nvPr/>
        </p:nvSpPr>
        <p:spPr>
          <a:xfrm>
            <a:off x="685800" y="106668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22920" y="137160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性增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AutoShape 5"/>
          <p:cNvSpPr/>
          <p:nvPr/>
        </p:nvSpPr>
        <p:spPr>
          <a:xfrm>
            <a:off x="685800" y="23623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Text Box 6"/>
          <p:cNvSpPr/>
          <p:nvPr/>
        </p:nvSpPr>
        <p:spPr>
          <a:xfrm>
            <a:off x="432000" y="2924280"/>
            <a:ext cx="91224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Text Box 7"/>
          <p:cNvSpPr/>
          <p:nvPr/>
        </p:nvSpPr>
        <p:spPr>
          <a:xfrm>
            <a:off x="1511640" y="3573360"/>
            <a:ext cx="912240" cy="10688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蛋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AutoShape 8"/>
          <p:cNvSpPr/>
          <p:nvPr/>
        </p:nvSpPr>
        <p:spPr>
          <a:xfrm flipH="1" flipV="1" rot="16200000">
            <a:off x="646920" y="3695400"/>
            <a:ext cx="761760" cy="381240"/>
          </a:xfrm>
          <a:custGeom>
            <a:avLst/>
            <a:gdLst>
              <a:gd name="textAreaLeft" fmla="*/ 0 w 761760"/>
              <a:gd name="textAreaRight" fmla="*/ 653040 w 761760"/>
              <a:gd name="textAreaTop" fmla="*/ 253800 h 381240"/>
              <a:gd name="textAreaBottom" fmla="*/ 381240 h 38124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90920" y="39625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213360" y="380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容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Line 11"/>
          <p:cNvSpPr/>
          <p:nvPr/>
        </p:nvSpPr>
        <p:spPr>
          <a:xfrm>
            <a:off x="4343400" y="3886200"/>
            <a:ext cx="0" cy="5335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AutoShape 12"/>
          <p:cNvSpPr/>
          <p:nvPr/>
        </p:nvSpPr>
        <p:spPr>
          <a:xfrm>
            <a:off x="4419720" y="3962520"/>
            <a:ext cx="304560" cy="3045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AutoShape 13"/>
          <p:cNvSpPr/>
          <p:nvPr/>
        </p:nvSpPr>
        <p:spPr>
          <a:xfrm>
            <a:off x="4876920" y="2666880"/>
            <a:ext cx="152280" cy="2362320"/>
          </a:xfrm>
          <a:custGeom>
            <a:avLst/>
            <a:gdLst>
              <a:gd name="textAreaLeft" fmla="*/ 97200 w 152280"/>
              <a:gd name="textAreaRight" fmla="*/ 152640 w 15228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2" name="Text Box 14"/>
          <p:cNvSpPr/>
          <p:nvPr/>
        </p:nvSpPr>
        <p:spPr>
          <a:xfrm>
            <a:off x="5351040" y="22860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小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滤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过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3" name="Line 15"/>
          <p:cNvSpPr/>
          <p:nvPr/>
        </p:nvSpPr>
        <p:spPr>
          <a:xfrm>
            <a:off x="6553080" y="2514600"/>
            <a:ext cx="0" cy="76212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4" name="Text Box 16"/>
          <p:cNvSpPr/>
          <p:nvPr/>
        </p:nvSpPr>
        <p:spPr>
          <a:xfrm>
            <a:off x="5351040" y="350532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肾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醛固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Line 17"/>
          <p:cNvSpPr/>
          <p:nvPr/>
        </p:nvSpPr>
        <p:spPr>
          <a:xfrm flipV="1">
            <a:off x="6443640" y="3573000"/>
            <a:ext cx="0" cy="8463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6" name="Text Box 18"/>
          <p:cNvSpPr/>
          <p:nvPr/>
        </p:nvSpPr>
        <p:spPr>
          <a:xfrm>
            <a:off x="5359320" y="46483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交感神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钠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AutoShape 19"/>
          <p:cNvSpPr/>
          <p:nvPr/>
        </p:nvSpPr>
        <p:spPr>
          <a:xfrm>
            <a:off x="6781680" y="2666880"/>
            <a:ext cx="152640" cy="2286000"/>
          </a:xfrm>
          <a:custGeom>
            <a:avLst/>
            <a:gdLst>
              <a:gd name="textAreaLeft" fmla="*/ 0 w 152640"/>
              <a:gd name="textAreaRight" fmla="*/ 5508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Text Box 20"/>
          <p:cNvSpPr/>
          <p:nvPr/>
        </p:nvSpPr>
        <p:spPr>
          <a:xfrm>
            <a:off x="7648560" y="3352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钠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AutoShape 21"/>
          <p:cNvSpPr/>
          <p:nvPr/>
        </p:nvSpPr>
        <p:spPr>
          <a:xfrm>
            <a:off x="7772400" y="2743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Text Box 22"/>
          <p:cNvSpPr/>
          <p:nvPr/>
        </p:nvSpPr>
        <p:spPr>
          <a:xfrm>
            <a:off x="7560720" y="175248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晶体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 flipV="1">
            <a:off x="8763120" y="1981080"/>
            <a:ext cx="0" cy="609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2" name="AutoShape 24"/>
          <p:cNvSpPr/>
          <p:nvPr/>
        </p:nvSpPr>
        <p:spPr>
          <a:xfrm>
            <a:off x="7696080" y="15238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Text Box 25"/>
          <p:cNvSpPr/>
          <p:nvPr/>
        </p:nvSpPr>
        <p:spPr>
          <a:xfrm>
            <a:off x="6960960" y="8380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抗利尿剂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4" name="Line 26"/>
          <p:cNvSpPr/>
          <p:nvPr/>
        </p:nvSpPr>
        <p:spPr>
          <a:xfrm flipV="1">
            <a:off x="8763120" y="914040"/>
            <a:ext cx="0" cy="609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AutoShape 27"/>
          <p:cNvSpPr/>
          <p:nvPr/>
        </p:nvSpPr>
        <p:spPr>
          <a:xfrm rot="10800000">
            <a:off x="5866920" y="1218960"/>
            <a:ext cx="685800" cy="685800"/>
          </a:xfrm>
          <a:custGeom>
            <a:avLst/>
            <a:gdLst>
              <a:gd name="textAreaLeft" fmla="*/ 0 w 685800"/>
              <a:gd name="textAreaRight" fmla="*/ 587880 w 685800"/>
              <a:gd name="textAreaTop" fmla="*/ 45720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7772400" y="4038480"/>
            <a:ext cx="457200" cy="533520"/>
          </a:xfrm>
          <a:prstGeom prst="downArrow">
            <a:avLst>
              <a:gd name="adj1" fmla="val 50000"/>
              <a:gd name="adj2" fmla="val 2917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Text Box 29"/>
          <p:cNvSpPr/>
          <p:nvPr/>
        </p:nvSpPr>
        <p:spPr>
          <a:xfrm>
            <a:off x="7788960" y="4572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8" name="AutoShape 30"/>
          <p:cNvSpPr/>
          <p:nvPr/>
        </p:nvSpPr>
        <p:spPr>
          <a:xfrm>
            <a:off x="1752480" y="457200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1404360" y="47926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肝脂蛋白合成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0" name="Line 32"/>
          <p:cNvSpPr/>
          <p:nvPr/>
        </p:nvSpPr>
        <p:spPr>
          <a:xfrm flipV="1">
            <a:off x="3962520" y="4723920"/>
            <a:ext cx="0" cy="6858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AutoShape 33"/>
          <p:cNvSpPr/>
          <p:nvPr/>
        </p:nvSpPr>
        <p:spPr>
          <a:xfrm>
            <a:off x="1752480" y="5410080"/>
            <a:ext cx="5335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4"/>
          <p:cNvSpPr/>
          <p:nvPr/>
        </p:nvSpPr>
        <p:spPr>
          <a:xfrm>
            <a:off x="1607040" y="5783400"/>
            <a:ext cx="115596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脂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AutoShape 35"/>
          <p:cNvSpPr/>
          <p:nvPr/>
        </p:nvSpPr>
        <p:spPr>
          <a:xfrm>
            <a:off x="7086600" y="3581280"/>
            <a:ext cx="304920" cy="3812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4" name="AutoShape 36"/>
          <p:cNvSpPr/>
          <p:nvPr/>
        </p:nvSpPr>
        <p:spPr>
          <a:xfrm>
            <a:off x="2195640" y="328464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Text Box 37"/>
          <p:cNvSpPr/>
          <p:nvPr/>
        </p:nvSpPr>
        <p:spPr>
          <a:xfrm>
            <a:off x="2050920" y="220500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浆胶体渗透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6" name="Line 38"/>
          <p:cNvSpPr/>
          <p:nvPr/>
        </p:nvSpPr>
        <p:spPr>
          <a:xfrm>
            <a:off x="3708360" y="2852640"/>
            <a:ext cx="0" cy="4017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Text Box 39"/>
          <p:cNvSpPr/>
          <p:nvPr/>
        </p:nvSpPr>
        <p:spPr>
          <a:xfrm>
            <a:off x="2411280" y="620640"/>
            <a:ext cx="144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8" name="AutoShape 40"/>
          <p:cNvSpPr/>
          <p:nvPr/>
        </p:nvSpPr>
        <p:spPr>
          <a:xfrm>
            <a:off x="2916360" y="1916280"/>
            <a:ext cx="45720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9" name="Text Box 41"/>
          <p:cNvSpPr/>
          <p:nvPr/>
        </p:nvSpPr>
        <p:spPr>
          <a:xfrm>
            <a:off x="2871000" y="1197000"/>
            <a:ext cx="668520" cy="5814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0" name="Line 42"/>
          <p:cNvSpPr/>
          <p:nvPr/>
        </p:nvSpPr>
        <p:spPr>
          <a:xfrm flipV="1">
            <a:off x="6804000" y="4797000"/>
            <a:ext cx="0" cy="8254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Rectangle 4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发病机制与病理生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2027160" y="968400"/>
            <a:ext cx="2864160" cy="39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99"/>
                </a:solidFill>
                <a:latin typeface="Times New Roman"/>
                <a:ea typeface="华文行楷"/>
              </a:rPr>
              <a:t>四大临床特征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大量蛋白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低蛋白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.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高胆固醇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AutoShape 3"/>
          <p:cNvSpPr/>
          <p:nvPr/>
        </p:nvSpPr>
        <p:spPr>
          <a:xfrm>
            <a:off x="5076720" y="2637000"/>
            <a:ext cx="76320" cy="761760"/>
          </a:xfrm>
          <a:custGeom>
            <a:avLst/>
            <a:gdLst>
              <a:gd name="textAreaLeft" fmla="*/ 0 w 76320"/>
              <a:gd name="textAreaRight" fmla="*/ 27360 w 7632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5622840" y="2708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必具条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611280" y="1484280"/>
            <a:ext cx="801684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1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单纯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~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，男∶女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=2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度水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可凹性，眼睑，面部，全身，胸水，腹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大量蛋白尿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丢失蛋白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2g/d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低蛋白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以白蛋白下降为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）高胆固醇血症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" descr="Image4"/>
          <p:cNvPicPr/>
          <p:nvPr/>
        </p:nvPicPr>
        <p:blipFill>
          <a:blip r:embed="rId1"/>
          <a:stretch/>
        </p:blipFill>
        <p:spPr>
          <a:xfrm>
            <a:off x="971640" y="1341360"/>
            <a:ext cx="7056360" cy="50230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1295280" y="202392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1" name="Picture 3" descr="ns4"/>
          <p:cNvPicPr/>
          <p:nvPr/>
        </p:nvPicPr>
        <p:blipFill>
          <a:blip r:embed="rId1"/>
          <a:srcRect l="23258" t="25582" r="0" b="0"/>
          <a:stretch/>
        </p:blipFill>
        <p:spPr>
          <a:xfrm>
            <a:off x="609480" y="3471840"/>
            <a:ext cx="1886040" cy="243828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4" descr="ns5"/>
          <p:cNvPicPr/>
          <p:nvPr/>
        </p:nvPicPr>
        <p:blipFill>
          <a:blip r:embed="rId2"/>
          <a:stretch/>
        </p:blipFill>
        <p:spPr>
          <a:xfrm>
            <a:off x="2666880" y="3471840"/>
            <a:ext cx="1886040" cy="25146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ns7"/>
          <p:cNvPicPr/>
          <p:nvPr/>
        </p:nvPicPr>
        <p:blipFill>
          <a:blip r:embed="rId3"/>
          <a:srcRect l="11763" t="0" r="21570" b="52943"/>
          <a:stretch/>
        </p:blipFill>
        <p:spPr>
          <a:xfrm>
            <a:off x="609480" y="1033560"/>
            <a:ext cx="2057400" cy="193680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6"/>
          <p:cNvSpPr/>
          <p:nvPr/>
        </p:nvSpPr>
        <p:spPr>
          <a:xfrm>
            <a:off x="3838680" y="1158840"/>
            <a:ext cx="4343400" cy="181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下行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凹陷性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Webdings"/>
                <a:ea typeface="Webdings"/>
              </a:rPr>
              <a:t></a:t>
            </a:r>
            <a:r>
              <a:rPr b="1" lang="zh-CN" sz="2800" spc="-1" strike="noStrike">
                <a:solidFill>
                  <a:srgbClr val="0000bc"/>
                </a:solidFill>
                <a:latin typeface="Arial"/>
                <a:ea typeface="宋体"/>
              </a:rPr>
              <a:t>严重者可有体腔积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3708360" y="4762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ˎ̥"/>
              </a:rPr>
              <a:t>    </a:t>
            </a:r>
            <a:r>
              <a:rPr b="1" lang="zh-CN" sz="3600" spc="-1" strike="noStrike">
                <a:solidFill>
                  <a:srgbClr val="ddb523"/>
                </a:solidFill>
                <a:latin typeface="Garamond"/>
                <a:ea typeface="宋体"/>
              </a:rPr>
              <a:t>水肿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6" name="Picture 8" descr="help_04"/>
          <p:cNvPicPr/>
          <p:nvPr/>
        </p:nvPicPr>
        <p:blipFill>
          <a:blip r:embed="rId5"/>
          <a:stretch/>
        </p:blipFill>
        <p:spPr>
          <a:xfrm>
            <a:off x="8229600" y="6138720"/>
            <a:ext cx="228600" cy="22860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9" descr="幻灯片12"/>
          <p:cNvPicPr/>
          <p:nvPr/>
        </p:nvPicPr>
        <p:blipFill>
          <a:blip r:embed="rId6"/>
          <a:stretch/>
        </p:blipFill>
        <p:spPr>
          <a:xfrm>
            <a:off x="5148360" y="3716280"/>
            <a:ext cx="30477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2-4-1"/>
          <p:cNvPicPr/>
          <p:nvPr/>
        </p:nvPicPr>
        <p:blipFill>
          <a:blip r:embed="rId1"/>
          <a:stretch/>
        </p:blipFill>
        <p:spPr>
          <a:xfrm>
            <a:off x="2036880" y="1371600"/>
            <a:ext cx="5449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1662120" y="1738440"/>
            <a:ext cx="5819760" cy="33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2"/>
          <p:cNvSpPr/>
          <p:nvPr/>
        </p:nvSpPr>
        <p:spPr>
          <a:xfrm>
            <a:off x="1763640" y="1125360"/>
            <a:ext cx="55785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2.  </a:t>
            </a:r>
            <a:r>
              <a:rPr b="1" lang="zh-CN" sz="3200" spc="-1" strike="noStrike">
                <a:solidFill>
                  <a:srgbClr val="99669b"/>
                </a:solidFill>
                <a:latin typeface="Times New Roman"/>
                <a:ea typeface="宋体"/>
              </a:rPr>
              <a:t>肾炎性肾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7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岁以上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水肿相对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肉眼血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氮质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低补体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迁延反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04920" y="4584600"/>
            <a:ext cx="8610480" cy="16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4" descr="59540e722dbcab73"/>
          <p:cNvPicPr/>
          <p:nvPr/>
        </p:nvPicPr>
        <p:blipFill>
          <a:blip r:embed="rId1"/>
          <a:stretch/>
        </p:blipFill>
        <p:spPr>
          <a:xfrm>
            <a:off x="4643280" y="1484280"/>
            <a:ext cx="4138920" cy="439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68360" y="155736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一、解剖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24000" y="2349360"/>
            <a:ext cx="4103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三）膀胱  位置较高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容量（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ml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=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【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年龄（岁）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+2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】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×30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（四）尿道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女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尿道短，口径相对较宽，近肛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男</a:t>
            </a:r>
            <a:r>
              <a:rPr b="1" lang="en-US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Comic Sans MS"/>
                <a:ea typeface="宋体"/>
              </a:rPr>
              <a:t>包皮过长或包茎。易引起上行性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2"/>
          <p:cNvSpPr/>
          <p:nvPr/>
        </p:nvSpPr>
        <p:spPr>
          <a:xfrm>
            <a:off x="1954080" y="1052640"/>
            <a:ext cx="4738680" cy="51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3.</a:t>
            </a:r>
            <a:r>
              <a:rPr b="1" lang="zh-CN" sz="4000" spc="-1" strike="noStrike">
                <a:solidFill>
                  <a:srgbClr val="cc3399"/>
                </a:solidFill>
                <a:latin typeface="华文行楷"/>
                <a:ea typeface="华文行楷"/>
              </a:rPr>
              <a:t>并发症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⑴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病原：病毒常见，细菌中肺炎球菌多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部位：呼吸道＞泌尿道或皮肤＞ 腹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电解质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原因：禁盐、大剂量利尿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常见：低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N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K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Ca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血症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高凝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因：血液浓缩、高脂血症、凝血因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位：肾静脉血栓常见，下腔静脉血栓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股动脉血栓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生长延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  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94920" y="2997000"/>
            <a:ext cx="82803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一）尿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性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+++ ~ ++++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4h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尿蛋白定量≥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mg/kg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偶见少量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W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肾炎型肾病可见较多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RBC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及颗粒管型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血液检查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浆总蛋白＜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5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血清白蛋白＜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，白、球比例倒置；血胆固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&gt;5.7mmol/L;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血沉明显增快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;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75" name="Picture 4" descr="1-4-1"/>
          <p:cNvPicPr/>
          <p:nvPr/>
        </p:nvPicPr>
        <p:blipFill>
          <a:blip r:embed="rId1"/>
          <a:stretch/>
        </p:blipFill>
        <p:spPr>
          <a:xfrm>
            <a:off x="539640" y="0"/>
            <a:ext cx="414036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三）肾功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尿量极少时可有暂性肾功能障碍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U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r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炎型肾病可有不同程度肾功能异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四）血清补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单纯型肾病血清补体多正常，肾炎型肾病血清补体多降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四、辅助检查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一般治疗</a:t>
            </a: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休息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卧床休息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饮食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严重水肿、高血压者需限水钠的摄入，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r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摄入优质动物蛋白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.5~2g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），注意补钙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VD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、各种微量元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宋体"/>
              </a:rPr>
              <a:t>防治感染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一旦发生感染应及时治疗，各种预防接种应推迟到肾病完全缓解且停用激素 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个月后进行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对症治疗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患儿虽有水肿但有效循环血量减少，故利尿需特别注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五、治疗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9640" y="1196640"/>
            <a:ext cx="82296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Verdana"/>
                <a:ea typeface="宋体"/>
              </a:rPr>
              <a:t>（三）激素治疗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73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肾上腺糖皮质激素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治疗本病的机制可能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免疫抑制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利尿作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③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肾小球滤过膜的通透性，减少尿蛋白滤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620640"/>
            <a:ext cx="863748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原则：</a:t>
            </a:r>
            <a:r>
              <a:rPr b="1" i="1" lang="zh-CN" sz="3600" spc="-1" strike="noStrike" u="sng">
                <a:solidFill>
                  <a:srgbClr val="ff33cc"/>
                </a:solidFill>
                <a:uFillTx/>
                <a:latin typeface="楷体_GB2312"/>
                <a:ea typeface="楷体_GB2312"/>
              </a:rPr>
              <a:t>足量、长疗程、个体化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短程疗法：泼尼松＜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Comic Sans MS"/>
                <a:ea typeface="楷体_GB2312"/>
              </a:rPr>
              <a:t>中、长程疗法：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泼尼松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6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个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omic Sans MS"/>
                <a:ea typeface="楷体_GB2312"/>
              </a:rPr>
              <a:t>冲击疗法：甲基强的松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395280" y="804960"/>
            <a:ext cx="8748720" cy="29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注意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H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始量要足、减量要慢、维持要长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疗效判断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敏感 ：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尿蛋白转阴，浮肿消退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耐药：满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仍在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激素依赖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：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尿蛋白转阴，停药或减量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内复发，重复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以上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95280" y="4365720"/>
            <a:ext cx="858996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（包括反复）：激素停用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周，尿蛋白由阴转阳</a:t>
            </a:r>
            <a:r>
              <a:rPr b="1" lang="zh-CN" sz="2400" spc="-1" strike="noStrike">
                <a:solidFill>
                  <a:srgbClr val="046ca6"/>
                </a:solidFill>
                <a:latin typeface="Comic Sans MS"/>
                <a:ea typeface="宋体"/>
              </a:rPr>
              <a:t>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，为复发；激素应用过程中，出现为反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频复发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：半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，或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年内复发≥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ˎ̥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31000" cy="21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四）免疫抑制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114480" y="1700280"/>
            <a:ext cx="8915400" cy="349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环磷酰胺（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CTX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主要通过影响核酸复制而发挥细胞毒性作用，主要作用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细胞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用法：口服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2~2.5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静脉冲击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10~12mg/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kg·d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× 2d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近期副作用 ：胃肠道反应、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减少、脱发、 肝功能损害、出血性膀胱炎等。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远期副作用 ：性腺损害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其他：苯丁酸氮芥、环孢霉素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宋体"/>
              </a:rPr>
              <a:t>A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宋体"/>
              </a:rPr>
              <a:t>、雷公藤多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78920" y="1484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（五）其他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7892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抗凝治疗   肝素、潘生丁、保肾康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剂   左旋咪唑、丙种球蛋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ACE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类药   卡托普利、依那普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一）肾功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小球滤过率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低，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肾功能达成人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肾浓缩功能差，尿最高渗透压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00mOsm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39640" y="112536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179280" y="1484280"/>
            <a:ext cx="8691840" cy="42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1.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行楷"/>
              </a:rPr>
              <a:t>健康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2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身体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血压、腹围、体重水肿部位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性质，及时采取标本，做尿常规检查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3.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心理</a:t>
            </a:r>
            <a:r>
              <a:rPr b="1" lang="en-US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-</a:t>
            </a:r>
            <a:r>
              <a:rPr b="1" lang="zh-CN" sz="3600" spc="-1" strike="noStrike">
                <a:solidFill>
                  <a:srgbClr val="046ca6"/>
                </a:solidFill>
                <a:latin typeface="华文行楷"/>
                <a:ea typeface="华文行楷"/>
              </a:rPr>
              <a:t>社会状况  </a:t>
            </a: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了解患儿及家长对本病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认识程度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05920" y="6019920"/>
            <a:ext cx="304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46ca6"/>
                </a:solidFill>
                <a:latin typeface="Times New Roman"/>
                <a:ea typeface="宋体"/>
              </a:rPr>
              <a:t>.</a:t>
            </a:r>
            <a:endParaRPr b="0" lang="en-US" sz="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六、护理评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0" dur="1" fill="hold"/>
                                  <p:tgtEl>
                                    <p:spTgt spid="3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457200" y="1295280"/>
            <a:ext cx="83962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体液过多  与低蛋白血症、钠水潴留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皮肤完整性受损的危险  与水肿引起局部循环障碍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感染的危险  与抵抗力下降、激素等应用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受伤的危险  与高血压引起惊厥昏迷摔伤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自我形象紊乱  与长期应用激素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焦虑  与疾病及预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潜在并发症：药物的副作用、电解质紊乱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previousslide"/>
          </p:cNvPr>
          <p:cNvSpPr/>
          <p:nvPr/>
        </p:nvSpPr>
        <p:spPr>
          <a:xfrm>
            <a:off x="7667640" y="5732640"/>
            <a:ext cx="457200" cy="30456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Rectangle 5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七、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预期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内水肿消退，体液分布正常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能摄入足够的营养物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未并发皮肤损伤及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住院期间无高血压、电解质紊乱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儿对外形改变造成的影响有正确的认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家长对疾病有了较正确的认识，焦虑心情减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2"/>
          <p:cNvSpPr/>
          <p:nvPr/>
        </p:nvSpPr>
        <p:spPr>
          <a:xfrm>
            <a:off x="685800" y="533520"/>
            <a:ext cx="7696080" cy="59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饮食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: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限盐：明显水肿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/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高血压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优质蛋白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多种维生素、微量元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预防皮肤、尿路、呼吸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.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皮肤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观察药物疗效及副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激素治疗护理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尿蛋白、尿量、血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白细胞计数、胃肠道反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）抗凝和溶栓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监测出凝血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539640" y="1197000"/>
            <a:ext cx="815364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6.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激素治疗的重要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强调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关心、爱护患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）做好定期门诊随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                                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1280" y="155700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2279160"/>
            <a:ext cx="861048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urinary tract infection, UTI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病原体直接侵入尿路，在尿中生长繁殖，并侵犯尿路黏膜或组织而引起损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 泌尿道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致病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细菌（最常见）、真菌、支原体及病毒。多数为革兰阴性菌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%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为大肠埃希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91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感染途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上行感染：最多见，尤其是女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源性感染：多发生于新生儿及小婴儿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淋巴感染：结肠肝曲与右肾间有淋巴相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直接感染：临近组织器官病变或器械检查，留置导尿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39280" y="1341000"/>
            <a:ext cx="786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易感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小儿泌尿系统解剖生理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先天畸形、尿路梗阻、膀胱输尿管反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泌尿道抵抗感染功能缺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其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急性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期：全身症状为主。发热，体温不升，皮肤苍白，体重不增。腹泻、腹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婴幼儿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儿童期：发热，腹痛肾区叩痛，遗尿。尿频，急，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慢性感染：病程迁延</a:t>
            </a:r>
            <a:r>
              <a:rPr b="1" lang="en-US" sz="2800" spc="-1" strike="noStrike">
                <a:solidFill>
                  <a:srgbClr val="ff0066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个月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（二）尿量与尿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尿量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新陈代谢旺盛，进水量多，但膀胱容量少，故排尿次数频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4681440" y="3284640"/>
          <a:ext cx="4226040" cy="2396880"/>
        </p:xfrm>
        <a:graphic>
          <a:graphicData uri="http://schemas.openxmlformats.org/drawingml/2006/table">
            <a:tbl>
              <a:tblPr/>
              <a:tblGrid>
                <a:gridCol w="1057320"/>
                <a:gridCol w="1055880"/>
                <a:gridCol w="1056960"/>
                <a:gridCol w="1055880"/>
              </a:tblGrid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出生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周后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学龄前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4~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0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5~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16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8ac8de"/>
                          </a:solidFill>
                          <a:latin typeface="Verdana"/>
                          <a:ea typeface="宋体"/>
                        </a:rPr>
                        <a:t>6~7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Rectangle 21"/>
          <p:cNvSpPr/>
          <p:nvPr/>
        </p:nvSpPr>
        <p:spPr>
          <a:xfrm>
            <a:off x="684360" y="98100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Comic Sans MS"/>
                <a:ea typeface="宋体"/>
              </a:rPr>
              <a:t>二、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058800" y="278136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同年龄小儿每日排尿次数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42920" y="1413000"/>
            <a:ext cx="70041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常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涂片找细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尿培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影像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般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治疗  早期积极应用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疗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感染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~1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复发者：小剂量，每晚睡前服用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~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月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  与感染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尿异常  与泌尿道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药物副作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476000" y="1341000"/>
            <a:ext cx="7256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一般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休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饮食：足够热量，丰富蛋白质和维生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对症护理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保持会阴部清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送检尿标本：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中段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用药护理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  <a:ea typeface="宋体"/>
              </a:rPr>
              <a:t>健康教育：定期复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F3B1-848D-4DC1-913C-23A432020AE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66200" y="1341360"/>
            <a:ext cx="79941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9b"/>
                </a:solidFill>
                <a:latin typeface="隶书"/>
                <a:ea typeface="隶书"/>
              </a:rPr>
              <a:t>尿量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每昼夜尿量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ml)    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婴幼儿    学龄前     学龄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正常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400~600    600~800   800~1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少尿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200          &lt;300           &lt;400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无尿        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&lt;50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)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多尿                                </a:t>
            </a: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&gt;2.5~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倍正常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0" y="2349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0" y="5157720"/>
            <a:ext cx="914400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280" y="1844640"/>
            <a:ext cx="820908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色及酸碱度：淡黄色透明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比重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接近成人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025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蛋白：定性（－），定量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mg/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和管型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/H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/HP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h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细胞计数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ddis  count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R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WB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，管型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，蛋白质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mg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539640" y="1341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、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液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 小儿泌尿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12:52:07Z</dcterms:modified>
  <cp:revision>378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